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DF05-C3A0-4BC1-B568-26F6B60F59A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94B1-3985-42D7-8161-EBEB2789DB9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D8D-DD8A-4B48-8CC5-0977D809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CEA-0050-4FF8-9E30-0BC51D8D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8CB-E3BB-4880-AF97-D58E4986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1D4-360A-4E77-B099-B0D7023E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CE2-0325-4922-980B-D1D66107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8B3-7C03-4A5A-BBE5-B1F8AC52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70E-629B-4CD6-80B1-B8C2E2DF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6B9-EB50-4D3C-865E-34FF86A8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49EB-97D3-49DB-A691-36F2F45A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C16-22BE-407B-83C9-2E3524ED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F7F-19D8-4B87-B771-0135AFC4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273-CCE5-4A0A-9DE9-254C9AE2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8757-00F1-4DB4-9625-19FA35F1E0E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85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Stereo perception on the iCu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ttangolo arrotondato 3"/>
          <p:cNvSpPr/>
          <p:nvPr/>
        </p:nvSpPr>
        <p:spPr>
          <a:xfrm>
            <a:off x="1104840" y="1441440"/>
            <a:ext cx="140652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alibri"/>
              </a:rPr>
              <a:t>CALIB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arentesi graffa aperta 4"/>
          <p:cNvSpPr/>
          <p:nvPr/>
        </p:nvSpPr>
        <p:spPr>
          <a:xfrm>
            <a:off x="2832120" y="1298520"/>
            <a:ext cx="357120" cy="142884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428840"/>
              <a:gd name="textAreaBottom" fmla="*/ 141984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5"/>
          <p:cNvSpPr/>
          <p:nvPr/>
        </p:nvSpPr>
        <p:spPr>
          <a:xfrm>
            <a:off x="3128040" y="1517760"/>
            <a:ext cx="298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ens undistor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trinsic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xtrinsic parameters (R, 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ttangolo arrotondato 8"/>
          <p:cNvSpPr/>
          <p:nvPr/>
        </p:nvSpPr>
        <p:spPr>
          <a:xfrm>
            <a:off x="1117440" y="3513240"/>
            <a:ext cx="140652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alibri"/>
              </a:rPr>
              <a:t>RECTIF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Connettore 2 10"/>
          <p:cNvCxnSpPr/>
          <p:nvPr/>
        </p:nvCxnSpPr>
        <p:spPr>
          <a:xfrm>
            <a:off x="1830960" y="2513160"/>
            <a:ext cx="1080" cy="10008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Connettore 2 11"/>
          <p:cNvCxnSpPr/>
          <p:nvPr/>
        </p:nvCxnSpPr>
        <p:spPr>
          <a:xfrm>
            <a:off x="2544480" y="4059360"/>
            <a:ext cx="36108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Rettangolo arrotondato 13"/>
          <p:cNvSpPr/>
          <p:nvPr/>
        </p:nvSpPr>
        <p:spPr>
          <a:xfrm>
            <a:off x="2928960" y="3524400"/>
            <a:ext cx="140652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STEREO MAT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Connettore 2 14"/>
          <p:cNvCxnSpPr/>
          <p:nvPr/>
        </p:nvCxnSpPr>
        <p:spPr>
          <a:xfrm>
            <a:off x="4344480" y="4095720"/>
            <a:ext cx="36108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Rettangolo arrotondato 15"/>
          <p:cNvSpPr/>
          <p:nvPr/>
        </p:nvSpPr>
        <p:spPr>
          <a:xfrm>
            <a:off x="4714920" y="3537000"/>
            <a:ext cx="140652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VISUAL ATT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33480" y="3421080"/>
            <a:ext cx="742680" cy="653760"/>
            <a:chOff x="33480" y="3421080"/>
            <a:chExt cx="742680" cy="653760"/>
          </a:xfrm>
        </p:grpSpPr>
        <p:sp>
          <p:nvSpPr>
            <p:cNvPr id="59" name="Rectangle 7"/>
            <p:cNvSpPr/>
            <p:nvPr/>
          </p:nvSpPr>
          <p:spPr>
            <a:xfrm>
              <a:off x="263880" y="3421080"/>
              <a:ext cx="512280" cy="410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186840" y="3498120"/>
              <a:ext cx="511920" cy="41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110160" y="3574800"/>
              <a:ext cx="512280" cy="410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33480" y="3664800"/>
              <a:ext cx="511920" cy="41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23760" y="4132440"/>
            <a:ext cx="742680" cy="653760"/>
            <a:chOff x="23760" y="4132440"/>
            <a:chExt cx="742680" cy="653760"/>
          </a:xfrm>
        </p:grpSpPr>
        <p:sp>
          <p:nvSpPr>
            <p:cNvPr id="64" name="Rectangle 18"/>
            <p:cNvSpPr/>
            <p:nvPr/>
          </p:nvSpPr>
          <p:spPr>
            <a:xfrm>
              <a:off x="254160" y="4132440"/>
              <a:ext cx="512280" cy="41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9"/>
            <p:cNvSpPr/>
            <p:nvPr/>
          </p:nvSpPr>
          <p:spPr>
            <a:xfrm>
              <a:off x="177480" y="4209480"/>
              <a:ext cx="512280" cy="41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20"/>
            <p:cNvSpPr/>
            <p:nvPr/>
          </p:nvSpPr>
          <p:spPr>
            <a:xfrm>
              <a:off x="100440" y="4286160"/>
              <a:ext cx="512280" cy="41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21"/>
            <p:cNvSpPr/>
            <p:nvPr/>
          </p:nvSpPr>
          <p:spPr>
            <a:xfrm>
              <a:off x="23760" y="4376160"/>
              <a:ext cx="512280" cy="41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8" name="Connettore 2 26"/>
          <p:cNvCxnSpPr/>
          <p:nvPr/>
        </p:nvCxnSpPr>
        <p:spPr>
          <a:xfrm>
            <a:off x="810720" y="3727440"/>
            <a:ext cx="28836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Connettore 2 27"/>
          <p:cNvCxnSpPr/>
          <p:nvPr/>
        </p:nvCxnSpPr>
        <p:spPr>
          <a:xfrm>
            <a:off x="810720" y="4355640"/>
            <a:ext cx="288360" cy="2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Connettore 2 28"/>
          <p:cNvCxnSpPr/>
          <p:nvPr/>
        </p:nvCxnSpPr>
        <p:spPr>
          <a:xfrm>
            <a:off x="6175440" y="4095720"/>
            <a:ext cx="3589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Rettangolo arrotondato 29"/>
          <p:cNvSpPr/>
          <p:nvPr/>
        </p:nvSpPr>
        <p:spPr>
          <a:xfrm>
            <a:off x="6572160" y="3548160"/>
            <a:ext cx="140652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3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TRAC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asellaDiTesto 30"/>
          <p:cNvSpPr/>
          <p:nvPr/>
        </p:nvSpPr>
        <p:spPr>
          <a:xfrm>
            <a:off x="4017960" y="55087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ANGE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aetta 31"/>
          <p:cNvSpPr/>
          <p:nvPr/>
        </p:nvSpPr>
        <p:spPr>
          <a:xfrm flipH="1" flipV="1" rot="981000">
            <a:off x="4277520" y="4180680"/>
            <a:ext cx="428760" cy="135792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asellaDiTesto 32"/>
          <p:cNvSpPr/>
          <p:nvPr/>
        </p:nvSpPr>
        <p:spPr>
          <a:xfrm>
            <a:off x="5488920" y="551484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3D COORDIN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aetta 33"/>
          <p:cNvSpPr/>
          <p:nvPr/>
        </p:nvSpPr>
        <p:spPr>
          <a:xfrm flipH="1" flipV="1" rot="981000">
            <a:off x="6138720" y="4187160"/>
            <a:ext cx="428760" cy="135720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Connettore 2 34"/>
          <p:cNvCxnSpPr/>
          <p:nvPr/>
        </p:nvCxnSpPr>
        <p:spPr>
          <a:xfrm>
            <a:off x="8079840" y="4095720"/>
            <a:ext cx="35964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CasellaDiTesto 35"/>
          <p:cNvSpPr/>
          <p:nvPr/>
        </p:nvSpPr>
        <p:spPr>
          <a:xfrm>
            <a:off x="7437960" y="551484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YE AND H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aetta 36"/>
          <p:cNvSpPr/>
          <p:nvPr/>
        </p:nvSpPr>
        <p:spPr>
          <a:xfrm flipH="1" flipV="1" rot="981000">
            <a:off x="8043120" y="4185360"/>
            <a:ext cx="428760" cy="135792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7:25:18Z</dcterms:created>
  <dc:creator>Utente Windows</dc:creator>
  <dc:description/>
  <dc:language>en-US</dc:language>
  <cp:lastModifiedBy>Utente Windows</cp:lastModifiedBy>
  <dcterms:modified xsi:type="dcterms:W3CDTF">2009-07-29T13:04:25Z</dcterms:modified>
  <cp:revision>6</cp:revision>
  <dc:subject/>
  <dc:title>Stereo perception on the iCub</dc:title>
</cp:coreProperties>
</file>